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0071-D7CB-420C-8944-6AD5D1E351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0990-E0EB-431A-AA9D-1AE1470E36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BA6-4D0A-41C0-B7A5-FADA4643B3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171-A1EC-4AE0-8928-232ECD94F8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E73-1B97-4B4C-9E7D-686B21A6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5C5-2E70-47EC-B3A3-B348124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25CE-2770-432B-AFB1-CA23662E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ABC-C25C-4046-8B86-7C39378C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A310-CC4D-44AB-A685-DF06EF16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2BB1-4DE3-415A-B663-E37AF36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E8F-ABAD-4F4B-9447-21BA25BA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D1F-36B9-44A5-91FB-68120AFD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47A4-CC0A-43D2-B173-E196301F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21C8-48C1-4B60-8619-A08E7FA8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6AC5-5F25-4927-AD36-599C53C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EE5-36EC-4A04-95AD-3E3127F2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786C-32A7-4C2F-823A-350E60F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8BFF-09A1-42AA-9A71-5AE9B86A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D7FE-DEDC-4ED9-BE05-0975D6AC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3CCA-C387-480D-8B76-D102F848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9B3-3B60-4E6E-8A81-AC2FEF5D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E8B-219A-491F-A837-D82A3377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503-5358-46FF-A409-493D68F7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804-7CE6-41C9-BEF7-FDCDB1EA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2C9-221A-4B91-83D2-85C05AB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CA6-9CCE-4E35-B772-36F09F7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176-13C5-4D7D-87FA-17C1FAF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572-8481-4B4E-886D-A423D52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8913-4B37-4005-817B-19CB17A82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38B-2720-46ED-BBBD-EB856FCD9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419724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m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des règles de 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erche des loc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chmark des solutions logici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s d’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en place une formation spécif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uter des commerc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ources hum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28T13:20:31Z</dcterms:modified>
  <cp:revision>5</cp:revision>
  <dc:subject/>
  <dc:title>Diapositive 1</dc:title>
</cp:coreProperties>
</file>